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8.jpeg" ContentType="image/jpeg"/>
  <Override PartName="/ppt/media/image30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4F3-AFB1-47A3-BCD4-89BFC989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491-918A-442C-AA28-0883042D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E7F-7E80-4ACA-9F7B-28056F61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F56-A78B-487D-81A1-D224DA18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047-3B99-4FAD-A896-20BF6245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AF7-1900-4806-A20C-4D701495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3FE-03F4-412D-81E6-74057B97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24C-9595-4908-984D-22BB789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17F-7CCF-4AB4-BB35-225E0FFC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CDB-684D-4FE7-BECB-417F78A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3D4-A92A-4CA5-A525-4865D1B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6DD-C37C-4D28-83D0-BFE104D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7C0C-708B-4F80-90CA-C64105265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51280" y="4849920"/>
            <a:ext cx="2519280" cy="1892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48360" y="4800600"/>
            <a:ext cx="1871640" cy="1859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2844720"/>
            <a:ext cx="2087640" cy="186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6560" y="76320"/>
            <a:ext cx="820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ашитов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нкратов,   А. В. Гол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нститут проблем точной механики и управления РАН, Саратов, Рос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E-mail: iptmuran@san.ru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tel.  (845-2)-222376,  fax: (845-2)-2223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4920" y="126828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ЩАЯ  И  ПРИКЛАД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ЕОРИЯ  ГИРОСК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rcRect l="10786" t="8129" r="6106" b="0"/>
          <a:stretch/>
        </p:blipFill>
        <p:spPr>
          <a:xfrm>
            <a:off x="971640" y="4829040"/>
            <a:ext cx="2303280" cy="1913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659640" y="2960640"/>
            <a:ext cx="2016000" cy="1749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706920" y="2997360"/>
            <a:ext cx="1728720" cy="16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2349360"/>
            <a:ext cx="42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КОМПЬЮТЕРНЫЕ  ЛЕ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856720" cy="64033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Аннотация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Мультимедийный курс лекций по общей и прикладной теории гироскопо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разработан в электронном и печатном вариантах, неразрывно связанных друг с друг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лектронный вариант записывается 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и является необъемлемой частью всего курса. Печатный вариант издается в виде книги, к которой прилагаетс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с электронным вариант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электронном варианте представлены основной теоретический материал в виде презентационных слайдов и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рограммы динамической визуализаци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принципов действия и уравнений движения основных типов гироскоп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печатном варианте представлен основной текстовый и графический материал лекций, изложены основные особенности методики проведения лекций и приведено описание программных модулей, реализующих динамическую визуализацию принципов действия и функционирования гироскопов, а также правила работы с программ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лектронный вариант курса может воспроизводиться непосредственно с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если нет необходимости менять исходные данные в программных модулях. В противном случае необходимо скопировать содержимо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на жесткий диск компьютера.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целом мультимедийный курс лекций по общей и прикладной теории гироскопов предназначен для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реподавателей, читающих этот курс лекци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и  может быть использован для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дистанционного обучен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амообучен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студентов и аспира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2823480"/>
            <a:ext cx="705636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одержание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ций (</a:t>
            </a:r>
            <a:r>
              <a:rPr b="1" i="1" lang="en-US" sz="2000" spc="-1" strike="noStrike">
                <a:solidFill>
                  <a:srgbClr val="663300"/>
                </a:solidFill>
                <a:latin typeface="Times New Roman"/>
              </a:rPr>
              <a:t>≈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ча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ные поло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еоретической механики, теории теплообмена, теории упругости и термоупругости, аэрогидромеханики и оптики, используемые в теории современных гироскоп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зические основ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функционирования гироскоп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ироскопы в кардановом подвес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плавковые гироскоп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динамически настраиваемые гироскоп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электростатические гироскоп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олновые твердотельные гироскоп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микромеханические гироскоп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олоконно-оптические гироскоп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пециальные 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еории возмущенных гироскоп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50000" y="1844640"/>
            <a:ext cx="1170000" cy="187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8000" y="81000"/>
            <a:ext cx="69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-образованных специалистов, создателей современной гироскопической техники и систем управ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лючевые задачи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ущественное повы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ффективности обучения и его оптимизация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работка новой метод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я теоретических и программных средст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ьютерных технологий 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зд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го мультимедийного программного обеспе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08720" y="44280"/>
            <a:ext cx="1800360" cy="171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10160" y="3716280"/>
            <a:ext cx="1041480" cy="93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812000" y="3821040"/>
            <a:ext cx="1224000" cy="68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24125" t="8129" r="19373" b="7802"/>
          <a:stretch/>
        </p:blipFill>
        <p:spPr>
          <a:xfrm>
            <a:off x="5435640" y="4508640"/>
            <a:ext cx="849240" cy="93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732720" y="4707000"/>
            <a:ext cx="86364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rcRect l="20457" t="0" r="13531" b="12085"/>
          <a:stretch/>
        </p:blipFill>
        <p:spPr>
          <a:xfrm>
            <a:off x="8028000" y="4581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6012000" y="5589720"/>
            <a:ext cx="865080" cy="86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7524720" y="5661000"/>
            <a:ext cx="1079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920" t="0" r="1856" b="21521"/>
          <a:stretch/>
        </p:blipFill>
        <p:spPr>
          <a:xfrm>
            <a:off x="71280" y="4075200"/>
            <a:ext cx="4645080" cy="2233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rcRect l="2402" t="0" r="2814" b="20098"/>
          <a:stretch/>
        </p:blipFill>
        <p:spPr>
          <a:xfrm>
            <a:off x="4427640" y="4581360"/>
            <a:ext cx="4681440" cy="21607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908000" y="3438360"/>
            <a:ext cx="53294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труктура компьютерных ле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791160"/>
            <a:ext cx="388944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Пакеты презентационных слай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4294440"/>
            <a:ext cx="432144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Программы динамической визуал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111240"/>
            <a:ext cx="892800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сновные особенности лекций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кции представлены в вид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акетов презентационных слайд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пьютерное математическое моделирование 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инамическая трехмерная визуализ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нципов действия и уравнений движени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ных типов гироскоп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зов программ из презентац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омощью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иперссыл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жные рисунки, формулы и т.п. распечатываются как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аточный материа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1989720"/>
            <a:ext cx="87850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Возможности предлагаемого подход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Гибкая и эффективная система модерниз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лек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озможность демонстр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в виде фотографий, видеофильмов, дополнительных презентаций. и т.д.) реальных конструкций гироскопов и их работы, исторических и др. материа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2268720" cy="171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40000" y="730080"/>
            <a:ext cx="2232000" cy="16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43280" y="725400"/>
            <a:ext cx="2233800" cy="1695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46920" y="765000"/>
            <a:ext cx="2162160" cy="161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4920" y="2935440"/>
            <a:ext cx="2340000" cy="1622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484360" y="2936880"/>
            <a:ext cx="2158920" cy="1571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4716360" y="2924280"/>
            <a:ext cx="21592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948360" y="2944800"/>
            <a:ext cx="2160720" cy="1582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179280" y="4890960"/>
            <a:ext cx="3024360" cy="192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6012000" y="4898880"/>
            <a:ext cx="2881080" cy="1914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8000" y="403200"/>
            <a:ext cx="2089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ироск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ардановом подвес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475200"/>
            <a:ext cx="223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плавковый гироск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403200"/>
            <a:ext cx="23036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инамически настраиваемый гироск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03200"/>
            <a:ext cx="19429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Электростатический гироск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4200" y="2707560"/>
            <a:ext cx="1658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анарный ММ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2707560"/>
            <a:ext cx="2016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мертонный ММ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2707560"/>
            <a:ext cx="251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МГ в кардановом подвес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2707560"/>
            <a:ext cx="1549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оторный ММ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4723560"/>
            <a:ext cx="2951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локонно-оптический гироск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2491560"/>
            <a:ext cx="3743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Микромеханические гироско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3632040" y="4508640"/>
            <a:ext cx="1803600" cy="23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76320"/>
            <a:ext cx="8713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иалоговые ок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грамм динамической визуа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8000" y="4651560"/>
            <a:ext cx="316872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лновой твердотельный гироск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189000"/>
            <a:ext cx="763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0" tIns="0" bIns="0" anchor="t">
            <a:noAutofit/>
          </a:bodyPr>
          <a:p>
            <a:pPr lvl="2" marL="3808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51908" t="0" r="0" b="305"/>
          <a:stretch/>
        </p:blipFill>
        <p:spPr>
          <a:xfrm>
            <a:off x="34920" y="981000"/>
            <a:ext cx="232740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11280" y="836640"/>
            <a:ext cx="253872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87280" y="404640"/>
            <a:ext cx="70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емонстрация динамики гироскопа в кардановом подве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3555000"/>
            <a:ext cx="76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Times New Roman"/>
              </a:rPr>
              <a:t>Нелинейные уравнения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движения гироскопов Эйлера и Лагранж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932360" y="5506920"/>
                <a:ext cx="30970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r>
                      <m:t xml:space="preserve">С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39640" y="607896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Times New Roman"/>
              </a:rPr>
              <a:t>Линеаризованные уравнения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движ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44000" y="4148640"/>
            <a:ext cx="792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.2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44000" y="4940640"/>
            <a:ext cx="792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.2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44000" y="5529600"/>
            <a:ext cx="792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.27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44000" y="6032880"/>
            <a:ext cx="792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.28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44000" y="6380640"/>
            <a:ext cx="792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.29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112392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1280" y="3944880"/>
                <a:ext cx="7011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 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acc>
                          <m:accPr>
                            <m:chr m:val="˙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˙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00000" y="4686480"/>
                <a:ext cx="7056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acc>
                          <m:accPr>
                            <m:chr m:val="˙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067280" y="5954760"/>
                <a:ext cx="3241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acc>
                      <m:accPr>
                        <m:chr m:val="˙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+</m:t>
                    </m:r>
                    <m:r>
                      <m:t xml:space="preserve">H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356000" y="6362640"/>
                <a:ext cx="32814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acc>
                      <m:accPr>
                        <m:chr m:val="˙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H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765000"/>
            <a:ext cx="3887640" cy="2664000"/>
          </a:xfrm>
          <a:custGeom>
            <a:avLst/>
            <a:gdLst>
              <a:gd name="textAreaLeft" fmla="*/ 172440 w 3887640"/>
              <a:gd name="textAreaRight" fmla="*/ 3715200 w 3887640"/>
              <a:gd name="textAreaTop" fmla="*/ 172440 h 2664000"/>
              <a:gd name="textAreaBottom" fmla="*/ 2491560 h 2664000"/>
            </a:gdLst>
            <a:ahLst/>
            <a:rect l="textAreaLeft" t="textAreaTop" r="textAreaRight" b="textAreaBottom"/>
            <a:pathLst>
              <a:path w="31520" h="21600">
                <a:moveTo>
                  <a:pt x="0" y="0"/>
                </a:moveTo>
                <a:lnTo>
                  <a:pt x="31520" y="0"/>
                </a:lnTo>
                <a:lnTo>
                  <a:pt x="31520" y="21600"/>
                </a:lnTo>
                <a:lnTo>
                  <a:pt x="0" y="21600"/>
                </a:lnTo>
                <a:close/>
              </a:path>
              <a:path fill="lightenLess" w="31520" h="21600">
                <a:moveTo>
                  <a:pt x="0" y="0"/>
                </a:moveTo>
                <a:lnTo>
                  <a:pt x="31520" y="0"/>
                </a:lnTo>
                <a:lnTo>
                  <a:pt x="30120" y="1400"/>
                </a:lnTo>
                <a:lnTo>
                  <a:pt x="1400" y="1400"/>
                </a:lnTo>
                <a:close/>
              </a:path>
              <a:path fill="darken" w="31520" h="21600">
                <a:moveTo>
                  <a:pt x="31520" y="0"/>
                </a:moveTo>
                <a:lnTo>
                  <a:pt x="31520" y="21600"/>
                </a:lnTo>
                <a:lnTo>
                  <a:pt x="30120" y="20200"/>
                </a:lnTo>
                <a:lnTo>
                  <a:pt x="30120" y="1400"/>
                </a:lnTo>
                <a:close/>
              </a:path>
              <a:path fill="darkenLess" w="31520" h="21600">
                <a:moveTo>
                  <a:pt x="31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20" y="20200"/>
                </a:lnTo>
                <a:close/>
              </a:path>
              <a:path fill="lighten" w="31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20" h="21600">
                <a:moveTo>
                  <a:pt x="8754" y="7301"/>
                </a:moveTo>
                <a:lnTo>
                  <a:pt x="9667" y="7301"/>
                </a:lnTo>
                <a:lnTo>
                  <a:pt x="10050" y="7667"/>
                </a:lnTo>
                <a:lnTo>
                  <a:pt x="19259" y="7667"/>
                </a:lnTo>
                <a:lnTo>
                  <a:pt x="19816" y="8224"/>
                </a:lnTo>
                <a:lnTo>
                  <a:pt x="19816" y="8772"/>
                </a:lnTo>
                <a:lnTo>
                  <a:pt x="21661" y="8772"/>
                </a:lnTo>
                <a:lnTo>
                  <a:pt x="22027" y="8224"/>
                </a:lnTo>
                <a:lnTo>
                  <a:pt x="22767" y="8224"/>
                </a:lnTo>
                <a:lnTo>
                  <a:pt x="22767" y="13376"/>
                </a:lnTo>
                <a:lnTo>
                  <a:pt x="22027" y="13376"/>
                </a:lnTo>
                <a:lnTo>
                  <a:pt x="21661" y="12828"/>
                </a:lnTo>
                <a:lnTo>
                  <a:pt x="19816" y="12828"/>
                </a:lnTo>
                <a:lnTo>
                  <a:pt x="19816" y="14107"/>
                </a:lnTo>
                <a:lnTo>
                  <a:pt x="10233" y="14107"/>
                </a:lnTo>
                <a:lnTo>
                  <a:pt x="10233" y="9877"/>
                </a:lnTo>
                <a:lnTo>
                  <a:pt x="10050" y="9877"/>
                </a:lnTo>
                <a:lnTo>
                  <a:pt x="9667" y="10243"/>
                </a:lnTo>
                <a:lnTo>
                  <a:pt x="8754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084720" y="1028880"/>
            <a:ext cx="2735280" cy="218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751120" y="1392120"/>
                <a:ext cx="2365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187280" y="56160"/>
            <a:ext cx="6769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римеры слайдов и раздаточ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765000"/>
            <a:ext cx="1295280" cy="505080"/>
          </a:xfrm>
          <a:prstGeom prst="wedgeRoundRectCallout">
            <a:avLst>
              <a:gd name="adj1" fmla="val 41912"/>
              <a:gd name="adj2" fmla="val 13459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ликни зде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58920" y="407160"/>
            <a:ext cx="687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применения камертона для получения инерциальной информации известна давн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озбудить в противофазе колебания камерто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ной амплитудой и частотой в плоскост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при наличии угловой скорости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озникнет пара сил Кориолиса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вызывающая колебания   камертона вокруг о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Амплитуда этих вторичных колебаний - мера измеряемой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0" y="262080"/>
            <a:ext cx="1989000" cy="2014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92360" y="44280"/>
            <a:ext cx="590400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амертонный  микромеханический гироско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5971680"/>
            <a:ext cx="8964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Принцип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атчика основан на измерении амплитуд угловых колебаний рамки (угол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или поступательных колебаний чувствительных масс (координаты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зываемых Кориолисовыми силами при наличи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76720" y="1773360"/>
                <a:ext cx="2077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74640" y="5662080"/>
            <a:ext cx="7569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ис. 2.17. Конструктивная (а) и кинематическая (б) схемы камертонного ММ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8000" y="3581280"/>
            <a:ext cx="2232000" cy="1863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433600" y="3573360"/>
            <a:ext cx="1922400" cy="2016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195640" y="5444640"/>
            <a:ext cx="43164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64000" y="3213000"/>
            <a:ext cx="4645080" cy="2376720"/>
          </a:xfrm>
          <a:custGeom>
            <a:avLst/>
            <a:gdLst>
              <a:gd name="textAreaLeft" fmla="*/ 153720 w 4645080"/>
              <a:gd name="textAreaRight" fmla="*/ 4491360 w 4645080"/>
              <a:gd name="textAreaTop" fmla="*/ 153720 h 2376720"/>
              <a:gd name="textAreaBottom" fmla="*/ 2223000 h 2376720"/>
            </a:gdLst>
            <a:ahLst/>
            <a:rect l="textAreaLeft" t="textAreaTop" r="textAreaRight" b="textAreaBottom"/>
            <a:pathLst>
              <a:path w="42212" h="21600">
                <a:moveTo>
                  <a:pt x="0" y="0"/>
                </a:moveTo>
                <a:lnTo>
                  <a:pt x="42212" y="0"/>
                </a:lnTo>
                <a:lnTo>
                  <a:pt x="42212" y="21600"/>
                </a:lnTo>
                <a:lnTo>
                  <a:pt x="0" y="21600"/>
                </a:lnTo>
                <a:close/>
              </a:path>
              <a:path fill="lightenLess" w="42212" h="21600">
                <a:moveTo>
                  <a:pt x="0" y="0"/>
                </a:moveTo>
                <a:lnTo>
                  <a:pt x="42212" y="0"/>
                </a:lnTo>
                <a:lnTo>
                  <a:pt x="40812" y="1400"/>
                </a:lnTo>
                <a:lnTo>
                  <a:pt x="1400" y="1400"/>
                </a:lnTo>
                <a:close/>
              </a:path>
              <a:path fill="darken" w="42212" h="21600">
                <a:moveTo>
                  <a:pt x="42212" y="0"/>
                </a:moveTo>
                <a:lnTo>
                  <a:pt x="42212" y="21600"/>
                </a:lnTo>
                <a:lnTo>
                  <a:pt x="40812" y="20200"/>
                </a:lnTo>
                <a:lnTo>
                  <a:pt x="40812" y="1400"/>
                </a:lnTo>
                <a:close/>
              </a:path>
              <a:path fill="darkenLess" w="42212" h="21600">
                <a:moveTo>
                  <a:pt x="4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12" y="20200"/>
                </a:lnTo>
                <a:close/>
              </a:path>
              <a:path fill="lighten" w="4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12" h="21600">
                <a:moveTo>
                  <a:pt x="14100" y="7301"/>
                </a:moveTo>
                <a:lnTo>
                  <a:pt x="15013" y="7301"/>
                </a:lnTo>
                <a:lnTo>
                  <a:pt x="15396" y="7667"/>
                </a:lnTo>
                <a:lnTo>
                  <a:pt x="24605" y="7667"/>
                </a:lnTo>
                <a:lnTo>
                  <a:pt x="25162" y="8224"/>
                </a:lnTo>
                <a:lnTo>
                  <a:pt x="25162" y="8772"/>
                </a:lnTo>
                <a:lnTo>
                  <a:pt x="27007" y="8772"/>
                </a:lnTo>
                <a:lnTo>
                  <a:pt x="27373" y="8224"/>
                </a:lnTo>
                <a:lnTo>
                  <a:pt x="28113" y="8224"/>
                </a:lnTo>
                <a:lnTo>
                  <a:pt x="28113" y="13376"/>
                </a:lnTo>
                <a:lnTo>
                  <a:pt x="27373" y="13376"/>
                </a:lnTo>
                <a:lnTo>
                  <a:pt x="27007" y="12828"/>
                </a:lnTo>
                <a:lnTo>
                  <a:pt x="25162" y="12828"/>
                </a:lnTo>
                <a:lnTo>
                  <a:pt x="25162" y="14107"/>
                </a:lnTo>
                <a:lnTo>
                  <a:pt x="15579" y="14107"/>
                </a:lnTo>
                <a:lnTo>
                  <a:pt x="15579" y="9877"/>
                </a:lnTo>
                <a:lnTo>
                  <a:pt x="15396" y="9877"/>
                </a:lnTo>
                <a:lnTo>
                  <a:pt x="15013" y="10243"/>
                </a:lnTo>
                <a:lnTo>
                  <a:pt x="14100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43280" y="3956040"/>
            <a:ext cx="1944720" cy="1335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659640" y="5541480"/>
            <a:ext cx="43164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2565360"/>
            <a:ext cx="1295280" cy="504720"/>
          </a:xfrm>
          <a:prstGeom prst="wedgeRoundRectCallout">
            <a:avLst>
              <a:gd name="adj1" fmla="val -83453"/>
              <a:gd name="adj2" fmla="val 17610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ликни зде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349360"/>
            <a:ext cx="5400720" cy="792360"/>
          </a:xfrm>
          <a:prstGeom prst="wedgeRoundRectCallout">
            <a:avLst>
              <a:gd name="adj1" fmla="val 34097"/>
              <a:gd name="adj2" fmla="val 18446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Движение гироскопа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можно посмотреть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с различных ракурсов,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управляя поворотом рисунка при нажатой левой клавише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589800" y="3573360"/>
            <a:ext cx="23032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8:13:56Z</dcterms:created>
  <dc:creator>v</dc:creator>
  <dc:description/>
  <dc:language>en-US</dc:language>
  <cp:lastModifiedBy>Lyakin</cp:lastModifiedBy>
  <dcterms:modified xsi:type="dcterms:W3CDTF">2008-11-27T14:47:08Z</dcterms:modified>
  <cp:revision>392</cp:revision>
  <dc:subject/>
  <dc:title>Заголовок слайда отсутствует</dc:title>
</cp:coreProperties>
</file>