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F61-4D02-495D-A111-171AC405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627-9AD8-436C-BF8E-117B691B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246-BA86-466C-AE60-186F2A22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539-BA4B-47EC-B452-1728962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AC9-4DAE-4A1A-8B68-8D1D2D01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D09-4EEF-48E1-9BB2-4BE34592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EF7-7050-4949-A38B-4C29D42D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71C-3627-4CB7-AEFC-B8EC7044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028-B72E-44AA-8585-24DE59F9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773-5CC6-4108-B7F9-EC377C7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CC8-E382-4425-BC44-15EE66DE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4F4-602A-44E6-BF3C-B3C6179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43C0-8600-439D-8312-C10B51E0E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6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5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6560" y="76320"/>
            <a:ext cx="820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ашитов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нкратов,    А. В. Гол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нститут проблем точной механики и управления РАН, Саратов,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-mail: iptmuran@san.ru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tel.  (845-2)-222376,  fax: (845-2)-2223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341360"/>
            <a:ext cx="6831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ЕОРЕТИЧЕСКАЯ  МЕХА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2852640"/>
            <a:ext cx="2751120" cy="147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2756" t="19839" r="38631" b="30399"/>
          <a:stretch/>
        </p:blipFill>
        <p:spPr>
          <a:xfrm>
            <a:off x="2989440" y="2708280"/>
            <a:ext cx="316692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9831" t="47296" r="40997" b="9022"/>
          <a:stretch/>
        </p:blipFill>
        <p:spPr>
          <a:xfrm>
            <a:off x="108000" y="4954680"/>
            <a:ext cx="2735280" cy="1569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92360" y="1989000"/>
            <a:ext cx="39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КОМПЬЮТЕРНЫЕ ЛЕ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rcRect l="6566" t="9335" r="39101" b="11345"/>
          <a:stretch/>
        </p:blipFill>
        <p:spPr>
          <a:xfrm>
            <a:off x="3492360" y="4365720"/>
            <a:ext cx="2135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659640" y="4533840"/>
            <a:ext cx="237636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1902" t="21334" r="42544" b="21952"/>
          <a:stretch/>
        </p:blipFill>
        <p:spPr>
          <a:xfrm>
            <a:off x="6300720" y="2852640"/>
            <a:ext cx="2737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856720" cy="61290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Аннотация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ультимедийный курс лекций по 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теоретической механике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работан в электронном и печатном вариантах, неразрывно связанных друг с друг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ектронный вариант записывается 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и является необъемлемой частью всего курса. Печатный вариант издается в виде книги, к которой прилагаетс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 электронным вариант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электронном варианте представлены основной теоретический материал в виде презентационных слайдов с анимацией и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рограммы динамической визуализа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кинематики и динамики механизмов, законов и феноменов механического движ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печатном варианте представлен основной текстовый и графический материал лекций, изложены основные особенности методики проведения лекций и приведено описание программных модулей, реализующих визуализацию кинематики и динамики механизмов, законов и феноменов механического движения, а также правила работы с программ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ектронный вариант курса может воспроизводиться непосредственно с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если нет необходимости менять исходные данные в программных модулях. В противном случае необходимо скопировать содержимо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на жесткий диск компьютера.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целом мультимедийный курс лекций по 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теоретической механик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предназначен для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реподавателей, читающих этот курс лекц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и  может быть использован для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дистанционного обуче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амообучен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тудентов и аспира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38920" y="4437000"/>
            <a:ext cx="1512720" cy="23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322272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одержание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ций (</a:t>
            </a: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≈</a:t>
            </a:r>
            <a:r>
              <a:rPr b="1" i="1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ча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ные раздел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татика.  Кинематика.  Динам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е раздел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Элементы аналитической механики.   Элементы теории удара.   Элементы нелинейной динамики и теории детерминированного хаоса в  механических систем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15920"/>
            <a:ext cx="705636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работ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будущих специалистов правильного понимания закономерностей развития научного познания 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глубленное изуч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даментальных и прикладных научных аспектов теоретической механ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лючевые задачи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ущественное повы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ивности обучения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аботка новой метод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я теоретических и программных сред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ных технологий 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зд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го мультимедийного программного обеспе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74920" y="5013360"/>
            <a:ext cx="2592360" cy="178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521480" y="44280"/>
            <a:ext cx="1587600" cy="309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99520" y="3357720"/>
            <a:ext cx="1591920" cy="237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1280" y="5268960"/>
            <a:ext cx="29880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9640" y="3511440"/>
            <a:ext cx="518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труктура компьютерных ле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3875040"/>
            <a:ext cx="388764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Пакеты презентационных слай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151520"/>
            <a:ext cx="439272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Программы динамической визуал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82440"/>
            <a:ext cx="878508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сновные особенности лекций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ции представлены в вид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акетов презентационных слайд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ьютерное математическое моделирование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инамическая трехмерная виз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инематики и динамики механизмов, законов и феноменов механического движен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зов программ из презентац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помощью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иперссыл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жные рисунки, формулы и т.п. распечатываются как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аточный материа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2062800"/>
            <a:ext cx="87138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Возможности предлагаемого подход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Гибкая и эффективная система модерниз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лекц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озможность демонстр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в виде фотографий, видеофильмов, дополнительных презентаций и т.д.) реальных конструкций механизмов и их работы, исторических, документальных и др. материа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14647"/>
          <a:stretch/>
        </p:blipFill>
        <p:spPr>
          <a:xfrm>
            <a:off x="71280" y="4149720"/>
            <a:ext cx="4572000" cy="23605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4468680"/>
            <a:ext cx="4537080" cy="22734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64000" y="475560"/>
            <a:ext cx="2016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инематика точ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76280"/>
            <a:ext cx="5330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инематика вращательного и плоского движения те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1513080" cy="147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3933360"/>
            <a:ext cx="7632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инематика сферического и общего движения тела и сложного движения точ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920" y="333360"/>
            <a:ext cx="169236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92720" y="700200"/>
            <a:ext cx="2087640" cy="1433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1944720" cy="127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671920" y="2565360"/>
            <a:ext cx="1755720" cy="1301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716360" y="256536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877080" y="2565360"/>
            <a:ext cx="2232000" cy="1263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24000" y="4221000"/>
            <a:ext cx="2016000" cy="117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3348000" y="4221000"/>
            <a:ext cx="2160720" cy="116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6732720" y="4211640"/>
            <a:ext cx="1942920" cy="1162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179280" y="5661000"/>
            <a:ext cx="1727280" cy="112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2484360" y="5649840"/>
            <a:ext cx="1295640" cy="116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920" y="5422320"/>
            <a:ext cx="381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Динамика колебательного дви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5422320"/>
            <a:ext cx="4537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Динамика плоского и сферического дви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4140360" y="5676840"/>
            <a:ext cx="1657080" cy="1141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596360" y="5680080"/>
            <a:ext cx="1512720" cy="1133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93600"/>
            <a:ext cx="842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иалоговые ок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грамм динамической визу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5"/>
          <a:stretch/>
        </p:blipFill>
        <p:spPr>
          <a:xfrm>
            <a:off x="5940360" y="5676840"/>
            <a:ext cx="151128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808560" y="6219360"/>
            <a:ext cx="610920" cy="609840"/>
            <a:chOff x="808560" y="6219360"/>
            <a:chExt cx="610920" cy="609840"/>
          </a:xfrm>
        </p:grpSpPr>
        <p:sp>
          <p:nvSpPr>
            <p:cNvPr id="87" name=""/>
            <p:cNvSpPr/>
            <p:nvPr/>
          </p:nvSpPr>
          <p:spPr>
            <a:xfrm rot="2700000">
              <a:off x="1158840" y="626364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1006200" y="6416640"/>
              <a:ext cx="215640" cy="214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3500000">
              <a:off x="853560" y="6567840"/>
              <a:ext cx="215640" cy="2167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79280" y="5624640"/>
            <a:ext cx="1079640" cy="1079280"/>
          </a:xfrm>
          <a:prstGeom prst="ellipse">
            <a:avLst/>
          </a:prstGeom>
          <a:solidFill>
            <a:srgbClr val="00cc99">
              <a:alpha val="1000"/>
            </a:srgbClr>
          </a:solidFill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6597720"/>
            <a:ext cx="100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ис.2.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66600"/>
            <a:ext cx="88567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6600"/>
                </a:solidFill>
                <a:latin typeface="Times New Roman"/>
              </a:rPr>
              <a:t>Пример 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2.11б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Корабль перемещается по поверхности воды согласно закон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0,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0,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ур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50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дифферен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ра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е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ра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785880"/>
            <a:ext cx="8713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Определить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 как функции времени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траекторию, скорость и ускорение корабля; его угловую скорость и угловое ускорение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1267560"/>
            <a:ext cx="1079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00"/>
                </a:solidFill>
                <a:latin typeface="Times New Roman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33520"/>
            <a:ext cx="748800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Имеем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общий случай движения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корабля.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Траектория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центра корабля определяется координатами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ζ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Сферическое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движение вокруг центра определяется координатами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1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04720" y="6554880"/>
                <a:ext cx="2509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332000" y="5950080"/>
                <a:ext cx="26820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233440" y="5516640"/>
                <a:ext cx="2509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9640" y="6165720"/>
                <a:ext cx="1447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711360" y="5587560"/>
            <a:ext cx="0" cy="11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141720"/>
            <a:ext cx="720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993300"/>
                </a:solidFill>
                <a:latin typeface="Times New Roman"/>
              </a:rPr>
              <a:t>Угловая скорость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рабля из кинематических уравнений Эйлера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рылова (рис.2.40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4920" y="4351320"/>
                <a:ext cx="55958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acc>
                      <m:accPr>
                        <m:chr m:val="˙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68840" y="4076640"/>
            <a:ext cx="6040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993300"/>
                </a:solidFill>
                <a:latin typeface="Times New Roman"/>
              </a:rPr>
              <a:t>Угловое ускорение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рабл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сле дифференцирования угловой скорост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4920" y="4724280"/>
                <a:ext cx="5891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acc>
                      <m:accPr>
                        <m:chr m:val="˙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+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20" y="5108400"/>
                <a:ext cx="25178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250920" y="2043000"/>
            <a:ext cx="3024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Times New Roman"/>
              </a:rPr>
              <a:t>Скорость центра корабл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294680" y="2187720"/>
                <a:ext cx="1757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2440" y="2259000"/>
                <a:ext cx="2138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π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/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19200" y="2276640"/>
                <a:ext cx="215928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π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/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46680" y="2259000"/>
                <a:ext cx="2173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,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,2</m:t>
                    </m:r>
                    <m:r>
                      <m:t xml:space="preserve">π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/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50920" y="2565360"/>
            <a:ext cx="2592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Times New Roman"/>
              </a:rPr>
              <a:t>Ускорение центра корабл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3840" y="2817720"/>
                <a:ext cx="22939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πt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м/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79680" y="2820960"/>
                <a:ext cx="2219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πt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м/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757760" y="2816280"/>
                <a:ext cx="2325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,2</m:t>
                    </m:r>
                    <m:r>
                      <m:t xml:space="preserve">πt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м/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229520" y="2743200"/>
                <a:ext cx="1814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52280" y="3403440"/>
                <a:ext cx="2133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30680" y="3402000"/>
                <a:ext cx="21589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76960" y="3402000"/>
                <a:ext cx="1363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92560" y="3789360"/>
                <a:ext cx="13762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1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,2</m:t>
                    </m:r>
                    <m:r>
                      <m:t xml:space="preserve">π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84560" y="3789360"/>
                <a:ext cx="7207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21280" y="3789360"/>
                <a:ext cx="1422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,2</m:t>
                    </m:r>
                    <m:r>
                      <m:t xml:space="preserve">π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29520" y="3429000"/>
                <a:ext cx="1765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27280" y="5157720"/>
                <a:ext cx="453960" cy="2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ψ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32000" y="5100480"/>
                <a:ext cx="16146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,2</m:t>
                    </m:r>
                    <m:r>
                      <m:t xml:space="preserve">π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788000" y="5084640"/>
                <a:ext cx="16556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0,2</m:t>
                    </m:r>
                    <m:r>
                      <m:t xml:space="preserve">π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084720" y="4300560"/>
                <a:ext cx="158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588000" y="4797360"/>
            <a:ext cx="2521080" cy="2016360"/>
          </a:xfrm>
          <a:custGeom>
            <a:avLst/>
            <a:gdLst>
              <a:gd name="textAreaLeft" fmla="*/ 130680 w 2521080"/>
              <a:gd name="textAreaRight" fmla="*/ 2390400 w 252108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3807200">
            <a:off x="956880" y="6219360"/>
            <a:ext cx="53100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77" y="123"/>
                </a:moveTo>
                <a:arcTo wR="10800" hR="10800" stAng="-5918437" swAng="3954682"/>
                <a:lnTo>
                  <a:pt x="10800" y="10800"/>
                </a:lnTo>
                <a:close/>
              </a:path>
              <a:path fill="none" w="21600" h="21600">
                <a:moveTo>
                  <a:pt x="9177" y="123"/>
                </a:moveTo>
                <a:arcTo wR="10800" hR="10800" stAng="-5918437" swAng="3954682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2880" y="6302520"/>
                <a:ext cx="1764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82880" y="5877000"/>
                <a:ext cx="176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55640" y="6524640"/>
            <a:ext cx="720720" cy="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71640" y="6237360"/>
            <a:ext cx="431640" cy="43344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6167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43280" y="6122880"/>
                <a:ext cx="26820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66920" y="6237360"/>
                <a:ext cx="144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V="1">
            <a:off x="2241720" y="5589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966200">
            <a:off x="1833480" y="6054480"/>
            <a:ext cx="862200" cy="215640"/>
          </a:xfrm>
          <a:custGeom>
            <a:avLst/>
            <a:gdLst>
              <a:gd name="textAreaLeft" fmla="*/ 189360 w 862200"/>
              <a:gd name="textAreaRight" fmla="*/ 672840 w 86220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>
              <a:alpha val="9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61279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79640" y="5876640"/>
            <a:ext cx="863640" cy="43164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 rot="13807200">
            <a:off x="2396880" y="5860800"/>
            <a:ext cx="53100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77" y="123"/>
                </a:moveTo>
                <a:arcTo wR="10800" hR="10800" stAng="-5918437" swAng="3954682"/>
                <a:lnTo>
                  <a:pt x="10800" y="10800"/>
                </a:lnTo>
                <a:close/>
              </a:path>
              <a:path fill="none" w="21600" h="21600">
                <a:moveTo>
                  <a:pt x="9177" y="123"/>
                </a:moveTo>
                <a:arcTo wR="10800" hR="10800" stAng="-5918437" swAng="3954682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51280" y="5445000"/>
                <a:ext cx="2509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3348000" y="6167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825720" y="55162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356000" y="6122880"/>
                <a:ext cx="2509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rot="20160000">
            <a:off x="3619080" y="6018120"/>
            <a:ext cx="397080" cy="287280"/>
          </a:xfrm>
          <a:custGeom>
            <a:avLst/>
            <a:gdLst>
              <a:gd name="textAreaLeft" fmla="*/ 87120 w 397080"/>
              <a:gd name="textAreaRight" fmla="*/ 309960 w 3970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>
              <a:alpha val="9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19280" y="6021360"/>
            <a:ext cx="718920" cy="28728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4000" y="5589720"/>
            <a:ext cx="358560" cy="79200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61279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 rot="8208000">
            <a:off x="3486600" y="5620320"/>
            <a:ext cx="486360" cy="39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54" y="10"/>
                </a:moveTo>
                <a:arcTo wR="10800" hR="10800" stAng="-5255594" swAng="3291839"/>
                <a:lnTo>
                  <a:pt x="10800" y="10800"/>
                </a:lnTo>
                <a:close/>
              </a:path>
              <a:path fill="none" w="21600" h="21600">
                <a:moveTo>
                  <a:pt x="11254" y="10"/>
                </a:moveTo>
                <a:arcTo wR="10800" hR="10800" stAng="-5255594" swAng="3291839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629160" y="5445000"/>
                <a:ext cx="15084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079640" y="6488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171" t="19831" r="42612" b="33401"/>
          <a:stretch/>
        </p:blipFill>
        <p:spPr>
          <a:xfrm>
            <a:off x="6948360" y="5651640"/>
            <a:ext cx="2014560" cy="946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740720" y="4437000"/>
            <a:ext cx="1295280" cy="504720"/>
          </a:xfrm>
          <a:prstGeom prst="wedgeRoundRectCallout">
            <a:avLst>
              <a:gd name="adj1" fmla="val -35416"/>
              <a:gd name="adj2" fmla="val 143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ликни зде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3800" y="5445000"/>
            <a:ext cx="2014560" cy="1295640"/>
          </a:xfrm>
          <a:prstGeom prst="wedgeRoundRectCallout">
            <a:avLst>
              <a:gd name="adj1" fmla="val 87430"/>
              <a:gd name="adj2" fmla="val 335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Движение корабля можно посмотреть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с различных ракурсов,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управляя поворотом рисунка при нажатой левой клавише мыш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0360" y="119700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06720" y="820800"/>
            <a:ext cx="1081080" cy="690480"/>
          </a:xfrm>
          <a:prstGeom prst="rect">
            <a:avLst/>
          </a:prstGeom>
          <a:gradFill rotWithShape="0">
            <a:gsLst>
              <a:gs pos="0">
                <a:srgbClr val="ffff00">
                  <a:alpha val="71372"/>
                </a:srgbClr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859280" y="965160"/>
                <a:ext cx="233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90360" y="54936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360" y="1557360"/>
            <a:ext cx="4862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9280" y="838080"/>
            <a:ext cx="1081080" cy="690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611440" y="317520"/>
            <a:ext cx="1619280" cy="879480"/>
            <a:chOff x="2611440" y="317520"/>
            <a:chExt cx="1619280" cy="879480"/>
          </a:xfrm>
        </p:grpSpPr>
        <p:sp>
          <p:nvSpPr>
            <p:cNvPr id="163" name=""/>
            <p:cNvSpPr/>
            <p:nvPr/>
          </p:nvSpPr>
          <p:spPr>
            <a:xfrm>
              <a:off x="2627280" y="4780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611440" y="549360"/>
              <a:ext cx="16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11640" y="4780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387600" y="317520"/>
                  <a:ext cx="231840" cy="2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1692360" y="861840"/>
            <a:ext cx="936720" cy="318960"/>
            <a:chOff x="1692360" y="861840"/>
            <a:chExt cx="936720" cy="31896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731960" y="861840"/>
                  <a:ext cx="2476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H="1">
              <a:off x="1692360" y="1180800"/>
              <a:ext cx="936720" cy="0"/>
            </a:xfrm>
            <a:prstGeom prst="line">
              <a:avLst/>
            </a:prstGeom>
            <a:ln w="69840">
              <a:solidFill>
                <a:srgbClr val="ff33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0360" y="1053360"/>
            <a:ext cx="2016000" cy="287280"/>
            <a:chOff x="90360" y="1053360"/>
            <a:chExt cx="2016000" cy="287280"/>
          </a:xfrm>
        </p:grpSpPr>
        <p:grpSp>
          <p:nvGrpSpPr>
            <p:cNvPr id="171" name=""/>
            <p:cNvGrpSpPr/>
            <p:nvPr/>
          </p:nvGrpSpPr>
          <p:grpSpPr>
            <a:xfrm>
              <a:off x="90360" y="1053360"/>
              <a:ext cx="2016000" cy="287280"/>
              <a:chOff x="90360" y="1053360"/>
              <a:chExt cx="2016000" cy="2872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0360" y="1053360"/>
                <a:ext cx="2016000" cy="287280"/>
                <a:chOff x="90360" y="1053360"/>
                <a:chExt cx="2016000" cy="287280"/>
              </a:xfrm>
            </p:grpSpPr>
            <p:sp>
              <p:nvSpPr>
                <p:cNvPr id="173" name=""/>
                <p:cNvSpPr/>
                <p:nvPr/>
              </p:nvSpPr>
              <p:spPr>
                <a:xfrm flipV="1">
                  <a:off x="90360" y="1053720"/>
                  <a:ext cx="144360" cy="14292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34720" y="1053360"/>
                  <a:ext cx="142920" cy="1443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522000" y="1197000"/>
                  <a:ext cx="144720" cy="1425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12520" y="1053360"/>
                  <a:ext cx="142920" cy="1443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1096920" y="1197000"/>
                  <a:ext cx="144360" cy="1425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1241280" y="1053720"/>
                  <a:ext cx="144360" cy="14292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388880" y="1053360"/>
                  <a:ext cx="142920" cy="1443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531800" y="1196280"/>
                  <a:ext cx="142920" cy="1443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673280" y="1197000"/>
                  <a:ext cx="144360" cy="1425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1817640" y="1053720"/>
                  <a:ext cx="144360" cy="14292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963800" y="1053360"/>
                  <a:ext cx="142560" cy="144360"/>
                </a:xfrm>
                <a:prstGeom prst="line">
                  <a:avLst/>
                </a:prstGeom>
                <a:ln w="25560">
                  <a:solidFill>
                    <a:srgbClr val="003366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77640" y="1196280"/>
                <a:ext cx="142920" cy="144360"/>
              </a:xfrm>
              <a:prstGeom prst="line">
                <a:avLst/>
              </a:prstGeom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666720" y="1053720"/>
                <a:ext cx="144360" cy="142920"/>
              </a:xfrm>
              <a:prstGeom prst="line">
                <a:avLst/>
              </a:prstGeom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955440" y="1196280"/>
              <a:ext cx="142920" cy="14436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530440" y="1214280"/>
                <a:ext cx="1699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2627280" y="836640"/>
            <a:ext cx="919080" cy="342720"/>
            <a:chOff x="2627280" y="836640"/>
            <a:chExt cx="919080" cy="342720"/>
          </a:xfrm>
        </p:grpSpPr>
        <p:sp>
          <p:nvSpPr>
            <p:cNvPr id="189" name=""/>
            <p:cNvSpPr/>
            <p:nvPr/>
          </p:nvSpPr>
          <p:spPr>
            <a:xfrm>
              <a:off x="2627280" y="1179360"/>
              <a:ext cx="86508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282840" y="836640"/>
                  <a:ext cx="26352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в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2579760" y="1125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44280"/>
            <a:ext cx="590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Явление резонанса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при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вынужденных колебаниях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М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333360"/>
            <a:ext cx="38876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Резонанс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– явление, возникающее при 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</a:rPr>
              <a:t>совпадении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частот вынужденных и свободных колебаний  М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6597720"/>
            <a:ext cx="93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ис.3.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1280" y="1197000"/>
            <a:ext cx="374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В этом случае амплитуда вынужденных колебаний в законе движения (3.27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8000" y="1989000"/>
            <a:ext cx="8928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Запишем дифференциальное уравнение (3.26) вынужденных колебаний (3.26) при резонансе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3860640"/>
            <a:ext cx="417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Закон движени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при 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</a:rPr>
              <a:t>резонансе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примет вид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981000"/>
            <a:ext cx="792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084720" y="1617840"/>
                <a:ext cx="201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708360" y="2276640"/>
                <a:ext cx="2320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8317080" y="2349360"/>
            <a:ext cx="72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.2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2720" y="2759040"/>
            <a:ext cx="223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Общее решение (3.29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211640" y="2708280"/>
                <a:ext cx="1081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524720" y="2733840"/>
                <a:ext cx="1584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364000" y="2747880"/>
                <a:ext cx="19432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2268360" y="3068640"/>
            <a:ext cx="6697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Определим постоянную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одстановкой частного решения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**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в (3.2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71640" y="3429000"/>
                <a:ext cx="29782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-2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013440" y="350028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093080" y="3284640"/>
                <a:ext cx="792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979640" y="4149720"/>
                <a:ext cx="6480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388360" y="4292640"/>
            <a:ext cx="72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.3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4794120"/>
            <a:ext cx="2519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Times New Roman"/>
              </a:rPr>
              <a:t>Вынужденные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колебания при 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</a:rPr>
              <a:t>резонансе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99280" y="4795920"/>
                <a:ext cx="216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8388360" y="4894200"/>
            <a:ext cx="72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.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5405400"/>
            <a:ext cx="6119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</a:rPr>
              <a:t>Выводы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Амплитуд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3366"/>
                </a:solidFill>
                <a:latin typeface="Times New Roman"/>
              </a:rPr>
              <a:t>вынужденных колеб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ри резонансе и отсутствии сил сопротивления 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возрастает пропорционально времени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(рис.3.13)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2.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Частота и период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ынужденных колебаний  при резонансе 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равны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частоте и периоду свободных колеба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Фаз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отстает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при резонансе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от фазы возмущающей силы на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4920" y="4714920"/>
            <a:ext cx="244944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34920" y="2276640"/>
            <a:ext cx="2089080" cy="1800000"/>
          </a:xfrm>
          <a:custGeom>
            <a:avLst/>
            <a:gdLst>
              <a:gd name="textAreaLeft" fmla="*/ 116640 w 2089080"/>
              <a:gd name="textAreaRight" fmla="*/ 1972440 w 208908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11660" t="48510" r="41159" b="9248"/>
          <a:stretch/>
        </p:blipFill>
        <p:spPr>
          <a:xfrm>
            <a:off x="250920" y="2492280"/>
            <a:ext cx="1727280" cy="1009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2360" y="4005360"/>
            <a:ext cx="1295280" cy="504720"/>
          </a:xfrm>
          <a:prstGeom prst="wedgeRoundRectCallout">
            <a:avLst>
              <a:gd name="adj1" fmla="val 31495"/>
              <a:gd name="adj2" fmla="val -1084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ликни зде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2084E-006 L 0.17326 1.32084E-006 E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8000" y="44280"/>
            <a:ext cx="89280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ример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3.11.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Электромотор массы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 на горизонтальной идеально гладкой плоскости и прикреплен к ней болтам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На валу мотора закреплен одним концом невесомый стержень длино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.  На другом конце стержня точечная масс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Вал вращается с угловой скоростью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ω =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Ускорение свободного пад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Определить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как функции времен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0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Суммарную нормальную силу реакции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плоскости и горизонтальную силу реак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болто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Критическую угловую скорос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вращения, при которой мотор оторвется от пола, если болты  срезаютс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Закон движ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и  траекторию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центра мас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мотора при отсутствии болт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1800" y="157464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3300"/>
                </a:solidFill>
                <a:latin typeface="Times New Roman"/>
              </a:rPr>
              <a:t>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1557360"/>
            <a:ext cx="302436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920" y="3860640"/>
            <a:ext cx="4032360" cy="2953080"/>
          </a:xfrm>
          <a:custGeom>
            <a:avLst/>
            <a:gdLst>
              <a:gd name="textAreaLeft" fmla="*/ 191160 w 4032360"/>
              <a:gd name="textAreaRight" fmla="*/ 3841200 w 4032360"/>
              <a:gd name="textAreaTop" fmla="*/ 191160 h 2953080"/>
              <a:gd name="textAreaBottom" fmla="*/ 2761920 h 2953080"/>
            </a:gdLst>
            <a:ahLst/>
            <a:rect l="textAreaLeft" t="textAreaTop" r="textAreaRight" b="textAreaBottom"/>
            <a:pathLst>
              <a:path w="29493" h="21600">
                <a:moveTo>
                  <a:pt x="0" y="0"/>
                </a:moveTo>
                <a:lnTo>
                  <a:pt x="29493" y="0"/>
                </a:lnTo>
                <a:lnTo>
                  <a:pt x="29493" y="21600"/>
                </a:lnTo>
                <a:lnTo>
                  <a:pt x="0" y="21600"/>
                </a:lnTo>
                <a:close/>
              </a:path>
              <a:path fill="lightenLess" w="29493" h="21600">
                <a:moveTo>
                  <a:pt x="0" y="0"/>
                </a:moveTo>
                <a:lnTo>
                  <a:pt x="29493" y="0"/>
                </a:lnTo>
                <a:lnTo>
                  <a:pt x="28093" y="1400"/>
                </a:lnTo>
                <a:lnTo>
                  <a:pt x="1400" y="1400"/>
                </a:lnTo>
                <a:close/>
              </a:path>
              <a:path fill="darken" w="29493" h="21600">
                <a:moveTo>
                  <a:pt x="29493" y="0"/>
                </a:moveTo>
                <a:lnTo>
                  <a:pt x="29493" y="21600"/>
                </a:lnTo>
                <a:lnTo>
                  <a:pt x="28093" y="20200"/>
                </a:lnTo>
                <a:lnTo>
                  <a:pt x="28093" y="1400"/>
                </a:lnTo>
                <a:close/>
              </a:path>
              <a:path fill="darkenLess" w="29493" h="21600">
                <a:moveTo>
                  <a:pt x="29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93" y="20200"/>
                </a:lnTo>
                <a:close/>
              </a:path>
              <a:path fill="lighten" w="29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06920" y="1773360"/>
            <a:ext cx="5329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. Электромотор прикреплен к плоскости болтами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419640" y="2205000"/>
                <a:ext cx="2028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492360" y="1986120"/>
            <a:ext cx="55436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Исходные уравнения и соотношения из теоремы о движении ц. 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867280" y="2205000"/>
                <a:ext cx="30099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-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490920" y="2492280"/>
                <a:ext cx="21621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43640" y="2492280"/>
                <a:ext cx="21430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003920" y="2698560"/>
            <a:ext cx="455220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= 0,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 + 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572000" y="2997360"/>
                <a:ext cx="1822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492360" y="2997360"/>
            <a:ext cx="10796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Сил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реа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3636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40480" y="2997360"/>
                <a:ext cx="2536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572000" y="3430440"/>
            <a:ext cx="29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Критическая угловая скорость вращения в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699320" y="3357720"/>
                <a:ext cx="1409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572000" y="3933720"/>
            <a:ext cx="3313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. Болты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внезапно среза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91760" y="5337360"/>
            <a:ext cx="3342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Угловая скорость вращения вала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ω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4713480"/>
            <a:ext cx="2448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Угловая скорость вращения вала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ω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873840" y="4653000"/>
                <a:ext cx="22352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572000" y="5589720"/>
                <a:ext cx="23050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1044720" y="3645000"/>
            <a:ext cx="863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ис.3.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796000" y="6202440"/>
                <a:ext cx="3313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24000" y="4340160"/>
            <a:ext cx="3168360" cy="2278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508720" y="4270320"/>
                <a:ext cx="6048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00720" y="4270320"/>
                <a:ext cx="72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429080" y="4235400"/>
            <a:ext cx="12225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Исходные урав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236000" y="4235400"/>
                <a:ext cx="18730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989440" y="3500280"/>
            <a:ext cx="1295280" cy="505080"/>
          </a:xfrm>
          <a:prstGeom prst="wedgeRoundRectCallout">
            <a:avLst>
              <a:gd name="adj1" fmla="val -46935"/>
              <a:gd name="adj2" fmla="val 927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ликни зде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8:13:56Z</dcterms:created>
  <dc:creator>v</dc:creator>
  <dc:description/>
  <dc:language>en-US</dc:language>
  <cp:lastModifiedBy>Lyakin</cp:lastModifiedBy>
  <dcterms:modified xsi:type="dcterms:W3CDTF">2008-11-27T14:34:45Z</dcterms:modified>
  <cp:revision>382</cp:revision>
  <dc:subject/>
  <dc:title>Заголовок слайда отсутствует</dc:title>
</cp:coreProperties>
</file>